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2699-EBE4-4392-8EEC-25C671C6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E99-72BB-4ED1-8530-A097864C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E02-6A4F-41EF-B629-4E9B521E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8F1-1612-49BB-B3BD-18DF95FF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6C4-2A5E-415D-B932-E131B0F1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A1E-2C5B-4C42-8658-B0A7FD28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1FD-F018-4796-8464-C4D6A05C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4DA6-610B-45BD-A5CE-6B59D793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D79-EACB-4183-9590-156839FE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5E0-C477-47E3-B5F8-642E88D2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23D-2D25-4C0D-B8FF-796B9782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18E-ADD6-4F21-9F73-3E0AE348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6500-AFE5-4887-85DC-0628E5490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 Narrow"/>
              </a:rPr>
              <a:t>Apostles’ Creed (baptismal for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 unity with the whole Church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let us stand and affirm the fa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into which we were baptis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G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Go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ather Almight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creator of heaven and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Jesus Chr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Jesus Chri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od’s only Son, our Lor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ho was concei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orn of the Virgin Mar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ffered under Pontius Pilat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as crucified, died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was buri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descended to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n the third day he rose agai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ascended into heav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e is seated at the right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Fa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he will come to judge the living and the de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o you believe in the Holy Spir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 believe in the Holy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oly catholic Churc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communion of saint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forgiveness of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resurrection of the bod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e life everlasting. 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3244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6 of 6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Arial Narrow"/>
              </a:rPr>
              <a:t>ELLC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1:40:14Z</dcterms:created>
  <dc:creator>Anon Anon</dc:creator>
  <dc:description/>
  <dc:language>en-US</dc:language>
  <cp:lastModifiedBy>Anon Anon</cp:lastModifiedBy>
  <dcterms:modified xsi:type="dcterms:W3CDTF">2005-08-16T04:23:11Z</dcterms:modified>
  <cp:revision>19</cp:revision>
  <dc:subject/>
  <dc:title>PowerPoint Presentation</dc:title>
</cp:coreProperties>
</file>